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3D6-6A4B-4D9A-885E-72096486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32E-DC0E-4626-981A-1C8FF475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A45F-0150-43F9-BD42-05DA261E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16B-1568-410C-8459-7CE8AD19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516-206B-446B-90C2-258DD260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FBC-C63F-4C7D-A7AE-9F9A7004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E39-2BFE-4BB1-A034-37F92607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ED0-18CB-4244-84C1-FD5ACCB2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F421-D9BB-4B1D-A071-6EEDA457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712-B962-4633-9B5C-E35B4D75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2D5-F915-44DE-A98B-2A232DE2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816-8850-4644-9F09-01F32A7C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CF51-4114-45BE-89DE-6506B2382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560" y="282240"/>
            <a:ext cx="88297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iversity Bioinformatic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320" y="2419200"/>
            <a:ext cx="730728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ry Cassteve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MOD Meeting at NES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ham, NC – June 29-30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://www.maizegenetics.net/gdpdm</a:t>
            </a:r>
            <a:br>
              <a:rPr sz="4100"/>
            </a:b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https://sourceforge.net/projects/gdpdm</a:t>
            </a:r>
            <a:endParaRPr b="0" lang="en-US" sz="41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Diversity Schema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Connecti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C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2320" y="2952720"/>
            <a:ext cx="73072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, 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3360"/>
            <a:ext cx="77724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GDPC Purpo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0240" y="960480"/>
            <a:ext cx="7326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urpose of GDPC is to simplify access to the large genomic and phenotypic datasets that are becoming available in plant biolog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5360" y="2670120"/>
            <a:ext cx="170820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13320" y="2670120"/>
            <a:ext cx="290988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Vie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Ana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923240" y="2670120"/>
            <a:ext cx="944640" cy="1327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71" idx="3"/>
            <a:endCxn id="72" idx="1"/>
          </p:cNvCxnSpPr>
          <p:nvPr/>
        </p:nvCxnSpPr>
        <p:spPr>
          <a:xfrm>
            <a:off x="7422840" y="3333240"/>
            <a:ext cx="500760" cy="108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4" name=""/>
          <p:cNvSpPr/>
          <p:nvPr/>
        </p:nvSpPr>
        <p:spPr>
          <a:xfrm>
            <a:off x="2790720" y="2676600"/>
            <a:ext cx="121932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DP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0" idx="3"/>
            <a:endCxn id="74" idx="1"/>
          </p:cNvCxnSpPr>
          <p:nvPr/>
        </p:nvCxnSpPr>
        <p:spPr>
          <a:xfrm>
            <a:off x="2203200" y="3333600"/>
            <a:ext cx="58788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cxnSp>
        <p:nvCxnSpPr>
          <p:cNvPr id="76" name=""/>
          <p:cNvCxnSpPr>
            <a:stCxn id="74" idx="3"/>
            <a:endCxn id="71" idx="1"/>
          </p:cNvCxnSpPr>
          <p:nvPr/>
        </p:nvCxnSpPr>
        <p:spPr>
          <a:xfrm flipV="1">
            <a:off x="4010040" y="3333240"/>
            <a:ext cx="504000" cy="7200"/>
          </a:xfrm>
          <a:prstGeom prst="straightConnector1">
            <a:avLst/>
          </a:prstGeom>
          <a:ln w="88920">
            <a:solidFill>
              <a:srgbClr val="ffffff"/>
            </a:solidFill>
            <a:miter/>
            <a:tailEnd len="sm" type="triangle" w="med"/>
          </a:ln>
        </p:spPr>
      </p:cxnSp>
      <p:sp>
        <p:nvSpPr>
          <p:cNvPr id="77" name=""/>
          <p:cNvSpPr/>
          <p:nvPr/>
        </p:nvSpPr>
        <p:spPr>
          <a:xfrm>
            <a:off x="465120" y="249120"/>
            <a:ext cx="82393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Data Flow via GDP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5560" y="586440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0" y="6168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maizegenetics.net/gdp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1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Databases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2080" y="809640"/>
            <a:ext cx="86151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mene Diversity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anzea (GDPDM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a Database (Germinate schem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ztec (private GDPDM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IN (passport data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942320" y="5867280"/>
            <a:ext cx="1069920" cy="82548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91960" y="509760"/>
            <a:ext cx="868392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/gdp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gdpc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7670880" y="5624640"/>
            <a:ext cx="1285920" cy="990360"/>
          </a:xfrm>
          <a:prstGeom prst="rect">
            <a:avLst/>
          </a:prstGeom>
          <a:ln w="12600">
            <a:solidFill>
              <a:srgbClr val="a8b795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GDPC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560" y="34308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it Analysis by aSSociation, Evolution, and Linkag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TASSEL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320" y="3281400"/>
            <a:ext cx="730728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S. Buckler, Dallas Kroon, Peter Bradbury, Zhiwu Zhang, and Terry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5760" y="620640"/>
            <a:ext cx="822636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Genomic Diversity and Phenotype Data Mode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GDPDM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2320" y="3435480"/>
            <a:ext cx="730728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Dallas Kroo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Peter Bradbury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Edward S. Buckle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nd many other revie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SDA-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95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://www.maizegenetics.ne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ttps://sourceforge.net/projects/tasse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266760"/>
            <a:ext cx="883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TASSEL Web Sit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40640" y="5799240"/>
            <a:ext cx="1289160" cy="87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2560" y="231840"/>
            <a:ext cx="882972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Pedigree Vie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beta version)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3189240"/>
            <a:ext cx="7307280" cy="17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y M. Casstev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stitute for Genomic Diversity, Cornell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85880" y="5925960"/>
            <a:ext cx="53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pported by National Science Found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BI-0321685 and USDA-A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4840" y="514440"/>
            <a:ext cx="8299440" cy="5857920"/>
            <a:chOff x="474840" y="514440"/>
            <a:chExt cx="8299440" cy="58579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74840" y="514440"/>
              <a:ext cx="82994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474840" y="514440"/>
              <a:ext cx="8299440" cy="5857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r">
                <a:spcBef>
                  <a:spcPts val="79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What is GDPDM?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tabase schema for holding data collected by QTL and Diversity Studi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266400"/>
            <a:ext cx="883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Times New Roman"/>
              </a:rPr>
              <a:t>Objective of GDPDM schema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018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ld the basic data behind QTL and diversity stud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cuses on taxa, evaluation environments, trait values, genotyping experiments, and genotypic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es not focus on genomic location, QTLs, detailed passport da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s no dependencies on QTL sch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7960" y="257040"/>
            <a:ext cx="2730600" cy="1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3840" indent="-28116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DPD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93840" indent="-281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chem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78080" y="263520"/>
            <a:ext cx="5192640" cy="639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702320" y="228600"/>
            <a:ext cx="4441680" cy="63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304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rmpla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as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ails link-out to germplasm ba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ate groups of tax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s complex genetic pedigre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2304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llow seed lots and ev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2880" y="1325520"/>
            <a:ext cx="4388040" cy="40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4657680"/>
            <a:ext cx="9042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full range of ploi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apture background on method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s to genomic map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40" y="220680"/>
            <a:ext cx="3071880" cy="43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Genoty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ures wide range of approaches (SNPs, SSR, sequence alignments, isozym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7360" y="509760"/>
            <a:ext cx="6032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212760"/>
            <a:ext cx="4402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henotype (trait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ntitative or qualitative tra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 ontology integ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nge of statistics can be recorded (mean, measure, median, std. deviation,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52760" y="1025640"/>
            <a:ext cx="45244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594240" y="81000"/>
            <a:ext cx="54846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Environ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field design can be recorded (down to the plant if desir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-Y coordin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planting information, treat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s with locality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s can be grouped into experi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6200" y="1147680"/>
            <a:ext cx="3291120" cy="44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0T19:32:50Z</dcterms:created>
  <dc:creator>Terry Casstevens</dc:creator>
  <dc:description/>
  <dc:language>en-US</dc:language>
  <cp:lastModifiedBy>Terry</cp:lastModifiedBy>
  <cp:lastPrinted>1998-07-25T07:41:09Z</cp:lastPrinted>
  <dcterms:modified xsi:type="dcterms:W3CDTF">2006-06-29T03:59:38Z</dcterms:modified>
  <cp:revision>647</cp:revision>
  <dc:subject/>
  <dc:title>Task-Sensitive Cinematography Interfaces for Interactive 3D Learning Environments</dc:title>
</cp:coreProperties>
</file>